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D6F-5D72-4C25-9CAD-A101BE84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8B1-3DB8-4D6C-921E-A74F9E6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5EA-2B1F-46C5-B247-26205E3E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47E-B100-4FC9-9F66-BD9123CC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2BB-14FB-43D5-A1B5-9B736F0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CFC-89A8-43E4-9665-2EF59832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9E4-06C9-4795-84AE-2FD40CD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364-C2BB-4522-94BF-EC9964A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9F5-C566-4000-B5FA-4718D7AD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E97-F4A6-4FD2-A053-78D73EC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31B-D72B-4A58-9341-14304E1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E5D-A16E-4625-BD72-62EF830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3D3-0D63-4815-8C69-90C30589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zent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esář kontak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809880"/>
            <a:ext cx="556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utoř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řina Bambušková, BAM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rtina Bartošíková, BAR4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lena Malovaná, MAL3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máš Pohl, POH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991-DB8A-4665-A468-34CE81E156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6" descr=""/>
          <p:cNvPicPr/>
          <p:nvPr/>
        </p:nvPicPr>
        <p:blipFill>
          <a:blip r:embed="rId7"/>
          <a:stretch/>
        </p:blipFill>
        <p:spPr>
          <a:xfrm>
            <a:off x="990720" y="1676520"/>
            <a:ext cx="7635600" cy="37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63D-FB98-4BF2-AC30-7128BCDB3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7" descr=""/>
          <p:cNvPicPr/>
          <p:nvPr/>
        </p:nvPicPr>
        <p:blipFill>
          <a:blip r:embed="rId7"/>
          <a:stretch/>
        </p:blipFill>
        <p:spPr>
          <a:xfrm>
            <a:off x="1295280" y="1447920"/>
            <a:ext cx="7635960" cy="37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ECD-5A95-4253-BC4F-FC799F10DD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8" descr=""/>
          <p:cNvPicPr/>
          <p:nvPr/>
        </p:nvPicPr>
        <p:blipFill>
          <a:blip r:embed="rId7"/>
          <a:stretch/>
        </p:blipFill>
        <p:spPr>
          <a:xfrm>
            <a:off x="990720" y="1523880"/>
            <a:ext cx="763560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784-AFEF-47C6-A6AD-F62FD5CC0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9" descr=""/>
          <p:cNvPicPr/>
          <p:nvPr/>
        </p:nvPicPr>
        <p:blipFill>
          <a:blip r:embed="rId7"/>
          <a:stretch/>
        </p:blipFill>
        <p:spPr>
          <a:xfrm>
            <a:off x="990720" y="1600200"/>
            <a:ext cx="7635600" cy="37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5D3-667D-4205-9F31-87EB81B63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908000" y="765000"/>
            <a:ext cx="6361200" cy="54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5DC-B72D-431F-9E8A-CC5A67198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828800" y="1219320"/>
            <a:ext cx="6095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letní sadu příkazů i s jejich funkcemi naleznete v souboru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anual.htm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Kde je veškerá uživatelská dokument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dále obsahuje programátorskou dokumentaci, která je generována programem javadoc, skript pr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uild.xml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ní diagram v jazyce UML, sadu testů pro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soubor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TestSlozka.jav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tuto prezenta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6EE-26AD-4DF2-860D-544173396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676520" y="137160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náš adresář kontaktů jsme použili návrhový vzor Kompozit.Tento návrhový vzor výborně řeší problém adresářové struktury,kde každá složka může obsahovat další podsložky nebo samotné kontakty. Vycházíme z abstraktní třídy položka. Třídy kontakt a složka jsou potomci této abstraktní třídy,každý objekt složky může mít jedna až n položek které mohou být typu složka nebo kontakt. Třída adresář implementuje operace jako jsou smaž, načti, přidej a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EC8-325E-4D04-BC41-884A9509D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diagram" descr=""/>
          <p:cNvPicPr/>
          <p:nvPr/>
        </p:nvPicPr>
        <p:blipFill>
          <a:blip r:embed="rId7"/>
          <a:stretch/>
        </p:blipFill>
        <p:spPr>
          <a:xfrm>
            <a:off x="1523880" y="990720"/>
            <a:ext cx="6701040" cy="49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312-9911-4324-AF95-843D8D288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981080" y="228600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yní Vám předvedeme, jak naše aplikace funguje na několika názorných příklade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AA4-9C06-4572-A785-2D9C3E403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1" descr=""/>
          <p:cNvPicPr/>
          <p:nvPr/>
        </p:nvPicPr>
        <p:blipFill>
          <a:blip r:embed="rId7"/>
          <a:stretch/>
        </p:blipFill>
        <p:spPr>
          <a:xfrm>
            <a:off x="1066680" y="1523880"/>
            <a:ext cx="763596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2E3-DD4C-481C-844C-9C5AE3E24F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2" descr=""/>
          <p:cNvPicPr/>
          <p:nvPr/>
        </p:nvPicPr>
        <p:blipFill>
          <a:blip r:embed="rId7"/>
          <a:stretch/>
        </p:blipFill>
        <p:spPr>
          <a:xfrm>
            <a:off x="1066680" y="1523880"/>
            <a:ext cx="763596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FA9-74FC-41AA-B49E-16CFB8CE91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3" descr=""/>
          <p:cNvPicPr/>
          <p:nvPr/>
        </p:nvPicPr>
        <p:blipFill>
          <a:blip r:embed="rId7"/>
          <a:stretch/>
        </p:blipFill>
        <p:spPr>
          <a:xfrm>
            <a:off x="990720" y="1523880"/>
            <a:ext cx="763560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9A7-5DB9-4458-88C4-639E8FE0D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4" descr=""/>
          <p:cNvPicPr/>
          <p:nvPr/>
        </p:nvPicPr>
        <p:blipFill>
          <a:blip r:embed="rId7"/>
          <a:stretch/>
        </p:blipFill>
        <p:spPr>
          <a:xfrm>
            <a:off x="1143000" y="1523880"/>
            <a:ext cx="763596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990-F928-4324-BE3B-89784686F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bmp3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1143000"/>
          <a:ext cx="3999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99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447920" y="380880"/>
          <a:ext cx="76960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80880"/>
                    <a:ext cx="7696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5" descr=""/>
          <p:cNvPicPr/>
          <p:nvPr/>
        </p:nvPicPr>
        <p:blipFill>
          <a:blip r:embed="rId7"/>
          <a:stretch/>
        </p:blipFill>
        <p:spPr>
          <a:xfrm>
            <a:off x="990720" y="1600200"/>
            <a:ext cx="7635600" cy="37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BBMP: BAM015, BAR487, MAL305, POH01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29C-BD0A-43B3-BB58-B659A36F08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12:01Z</dcterms:created>
  <dc:creator>Nippy Kaa</dc:creator>
  <dc:description/>
  <dc:language>en-US</dc:language>
  <cp:lastModifiedBy>student</cp:lastModifiedBy>
  <dcterms:modified xsi:type="dcterms:W3CDTF">2005-01-13T15:41:49Z</dcterms:modified>
  <cp:revision>11</cp:revision>
  <dc:subject/>
  <dc:title>Prezentace projektu </dc:title>
</cp:coreProperties>
</file>