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B14-9250-44C2-94B7-CED41AFC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A77-EBCB-4A0E-87F5-219FED0F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C30-3E6E-4B71-AF15-155728C6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ED9-5014-4CB7-A7C4-0CB160E9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1A9-860D-46B7-83B4-E9BEA9DE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650-8CF1-4A7B-B748-093D55EB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78D-94BE-4AE7-BDDB-47953860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DE3-F091-422E-9727-25D55078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30B-9AF6-4A1D-AE07-638222F0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3DF-FECC-447F-BEEB-7E7F78C9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A93-A5F3-4D31-B1F5-15244015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A7F-CB83-44CE-A334-E4810F16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E4AA-58C1-461E-AA83-E634684F8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ody řazení pol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447920"/>
            <a:ext cx="7467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okusím se Vám vysvětlit princip řazení polí pomocí metod: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SelectSort, InsertSort, BubleSort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a potom Vám pomůžu s vytvořením vlastního kódu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457200"/>
            <a:ext cx="81532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ď si to vyzkoušíme přímo ve VB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ět je tam samé vyměňování a tak použijeme podprogram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me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z prvního příkladu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likož budeme testovat jestli už je prvek na správném místě zavedeme si logickou proměnnou typ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ub InsertSort (Pole, Prvk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im Nalezeno As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yní potřebujeme cyklus dlouhý počet prvků, které budeme vklá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or i = 0 To UBound (Prvk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304920"/>
            <a:ext cx="853416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likož se naše pole bude rozšiřovat budeme potřebovat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ReDimenz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Dim Preserve Pole (LBound (Pole) To UBound (Pole)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yní vložíme prvek na konec pole, nastavíme proměnou Nalezeno n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proměnnou j pro další cyklus na horní mez našeho nového po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le (UBound (Pole)) = Prvek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lezeno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 = UBound (P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yní vytvoříme podmíněný cykl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o While j &gt;= 1 And Not Naleze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' Cykluj tak dlouho, dokud j je menší nebo rovno 1 a zároveň ještě není Nalez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80880"/>
            <a:ext cx="86104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f Prvek (i) &lt; Pole (j - 1) Th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' Jestliže je vkládaný prvek menší než ten před ním proveď tyto přík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all Vymena (Pole (j), Pole (j -1)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' Zavolej podprogram pro výmě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 = j -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' Zmenši hodnotu proměnné j o 1 pro případ, že ještě není prvek na správném mís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případě, že je na správném místě, tj. že už není menší než ten před ním nastav proměnnou Nalezeno na hodnotu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lezeno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ď už zbývá jen ukončit rozhodování a cyk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xt i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7160"/>
            <a:ext cx="8458200" cy="66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lý kód pak vypadá tak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Su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InsertSort (Pole, Prvk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Di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Nalezeno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As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i = 0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To UBound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(Prvk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Dim Preserv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ole (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LBound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(Pole)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To UBound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(Pole) +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le (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UBound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(Pole)) = Prvky (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lezeno =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UBound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(Po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Do Whil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 &gt;= 1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And Not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Nalez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vky (i) &lt; Pole (j - 1)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Call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mena (Pole (j), Pole (j -1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 = j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lezeno =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Next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380880"/>
            <a:ext cx="8610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poslední metodou je metoda BubleSort, která pracuje na principu tzv. „vybublávání“ prvků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jme např. tyto čísla: 2, 6, 9, 1, 7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začneme postupně od zadu porovnávat, která čísla jsou menší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4 menší jak 7? Ano. Vyměníme j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, 6, 9, 1, 7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4 menší jak 1? Ne. Tak ni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, 6, 9, 1, 4,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1 menší jak 9? Ano. Vyměníme j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, 6, 9, 1, 4,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1 menší jak 6? Ano. Vyměníme j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, 6, 1, 9, 4,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1 menší než 2? Ano. Vyměníme j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, 1, 6, 9, 4,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e zatím vypadá tak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, 2, 6, 9, 4,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2514600"/>
            <a:ext cx="3049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3048120"/>
            <a:ext cx="3049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3581280"/>
            <a:ext cx="30456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4114800"/>
            <a:ext cx="3049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648320"/>
            <a:ext cx="3049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2209680"/>
            <a:ext cx="304920" cy="22392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3352680"/>
            <a:ext cx="304920" cy="22392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3886200"/>
            <a:ext cx="304920" cy="22392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4419720"/>
            <a:ext cx="304560" cy="22356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380880"/>
            <a:ext cx="8534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6, 9, 4,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čneme zase od k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7 menší jak 4? Ne. Nic se nedě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6, 9, 4,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4 menší než 9? Ano. Vyměníme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6, 9, 4,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4 menší než 6? Ano. Vyměníme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6, 4, 9,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4 menší něž 2 a 2 menší než 1?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4, 6, 9,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se od ko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7 menší než 9? Ano. Vyměníme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4, 6, 9,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4, 6, 7, 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stujeme tak dlouho, do až projedeme všechny možnos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 VB to pak bude vypadat asi takto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1523880"/>
            <a:ext cx="3049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2057400"/>
            <a:ext cx="3049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590920"/>
            <a:ext cx="30456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1828800"/>
            <a:ext cx="304560" cy="22392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362320"/>
            <a:ext cx="304920" cy="22356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3200400"/>
            <a:ext cx="3049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200400"/>
            <a:ext cx="3049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4267080"/>
            <a:ext cx="3049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4038480"/>
            <a:ext cx="304560" cy="22392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3200400"/>
            <a:ext cx="30492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304920"/>
            <a:ext cx="8610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ub BubleSort (P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vedeme si dva cykly, jeden na počet testování od zadu, a druhý na samotný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or i = 1 To UBound (P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or j = UBound (Pole) To  i Step – 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‘cyklus od k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yní potřebujeme rozhodování a výmě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f Pole (j) &lt; Pole (j –1) Then Call Vymena (Pole (j), Pole (j –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nakonec ukončíme cy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xt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x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380880"/>
            <a:ext cx="830592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elý program pak vypadá tak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u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ubleSort (P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 = 1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 UBoun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P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 =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UBoun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Pole)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i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te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le (j) &lt; Pole (j –1)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 Cal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mena (Pole (j), Pole (j –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nex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Nex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 závěr jen několik málo ra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447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žívejt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Option Explic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dimenzujte proměnné ušetří Vám to spoustu času při hledání drobných chyb, způsobených překle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4382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ní na škodu odladit si program pomocí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Watch Windo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jistíte co přesně Váš program dělá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429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ždý program se dá udělat různými způsoby, zkuste nalézt co nejjednodušší řešení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419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ládejte si své projekty průběžně, ať nepláčete nad zbytečně stráveným časem při nečekaném výpadku sítě či zahryznutí 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410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akonec přeji mnoho úspěchů při Vaší programátorské čin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86000"/>
            <a:ext cx="7696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 jakýchkoliv dotazech a připomínkách se na mě můžete obrátit buď osobně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ateřina Bambušková, 4.D-E, SPŠ Brunt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bo můžete psát na emailovou adres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katerina.bambuskova@seznam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10120" y="-3238560"/>
            <a:ext cx="22860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97180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ějme např. tyto čísla: 2, 6, 9, 1, 7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yní začneme procházet naše pole od první pozice a najdeme nejmenší číslo to je č. 1 a to dáme na začátek tím způsobem že je vymění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še pole teď vypadá takto: 1, 6, 9, 2, 7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ní začneme prohledávat pole až od druhé pozice a opět hledáme nejmenší číslo, to je č. 2 a opět ho vymění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3048120"/>
            <a:ext cx="3049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4876920"/>
            <a:ext cx="3049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786040"/>
            <a:ext cx="876600" cy="22392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4572000"/>
            <a:ext cx="533520" cy="22392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ačneme metodou SelectSort a ukážeme si ji prakticky např. na číslech (pro svou jednoduc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e řadit můžeme téměř vš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text, objekty, a to podle různých parametrů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838080"/>
            <a:ext cx="76197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 vypadá takto: 1, 2, 9, 6, 7, 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ět začneme prohledávat pole o jednu pozici dál tzn. od třetí dalším nejmenším číslem je č.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výměně pole vypadá následovně 1, 2, 4, 6, 7, 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čtvrté pozici je č. 6 a to je číslo pro nás nejmenší, proto k výměně nedojde a pokračujeme dá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še pole je již seřazené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ď si to vyzkoušíme přímo ve VB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914400"/>
            <a:ext cx="30456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652320"/>
            <a:ext cx="876240" cy="22392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362320"/>
            <a:ext cx="3049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9144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 jste si určitě dobře všimli budeme potřebovat prvky mezi sebou vyměňovat proto si nejprve vytvoříme podprogram na výměnu prvků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b Vymena (x,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=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762120"/>
            <a:ext cx="807732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ub SelectSort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prve potřebujeme pole, to se definuje pomocí příkaz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le = Array (2, 6, 9, 1, 7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yní potřebujeme cyklus, který nám bude procházet prvky v p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or i = LBound (Pole) To UBound (Pole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' cykluj i od dolní meze pole až po horní mez v našem případě je to od 0 do 5 nebo od 1 do 6 v případě, že máme nastavený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Option B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yní položíme první prvek jako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inimum = 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' Tím se minimem stane vždy první prvek procházené čá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28600"/>
            <a:ext cx="84582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 porovnávání potřebujeme zavést druhý cyklus který bude cyklovat vždy o index výš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or j = i + 1 To UBound (P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rovnání pak vypadá tak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f Pole (j) &lt; Pole (Minimum) Th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' Jestliže je Pole s indexem j větší než pole s indexem minimum pak proveď tyto příkaz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inimum = 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' Nové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all Vymena (Pele (j), Pole (Minimum)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' Zavolej podprogram Vymena a vyměň prvky v p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ď zbývá ukončit rozhodování a oba cyk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xt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x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28600"/>
            <a:ext cx="8229600" cy="65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Celý kód pak vypadá tak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Su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electSor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 = Array (2, 6, 9, 1, 7,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i =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LBou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Pole)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To UBou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Po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inimum =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 = i + 1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To UBou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Po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ole (j) &lt; Pole (Minimum)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inimum =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Cal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ymena (Pole (j), Pole (Minimum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Nex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Nex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Zkusme si ho odladit (nejlépe přímo v ladícím okně programu V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838080"/>
            <a:ext cx="82296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metodou je metoda InsertSort, která pracuje na principu zakládání prvků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jme např. tyto čísla: 2, 6, 9, 1, 7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zmeme první číslo, tj. 2 a vložíme ho na začátek prázdné řa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k vezmeme druhé číslo tj. 6 a vložíme ho na konec, teď se ptáme, jestli je menší než to před 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še není menší tak ho necháme tam naše řada vypadá zatím takto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2,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zmeme další, to opět vložíme na konec a ptáme se, jestli je menší než to předním 9 není větší jak 6 a tak ji necháme na konci 2, 6, 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1828800"/>
            <a:ext cx="3049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828800"/>
            <a:ext cx="3049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828800"/>
            <a:ext cx="30456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228600"/>
            <a:ext cx="79246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6, 9, 1, 7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ším číslem v pořadí je č. 1 opět ho vložíme na konec a testujeme zda je menší než čísla před ní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je menší jak 9 tak se prohod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6, 9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je menší jak 6 tak se opět prohod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6, 1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jelikož je menší než 2 tak se opět prohod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1, 6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ět vložíme 7 na konec a zjistíme že je menší jak číslo před ní tj. 9 opět je prohodí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6, 9, 7 =&gt; 1, 2, 6, 7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 7 už není menší jak 6 tak už zůstane tam. Pole vypadá takto: 1, 2, 6, 7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ledním číslem je číslo 4 a to opět vložíme na konec a postupním testováním se nám zařadí až mezi 2 a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le máme seřazené 1, 2, 4, 6, 7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4920"/>
            <a:ext cx="30456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1752480"/>
            <a:ext cx="30456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2286000"/>
            <a:ext cx="3049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2819520"/>
            <a:ext cx="3049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304920"/>
            <a:ext cx="3049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3733920"/>
            <a:ext cx="3049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04920"/>
            <a:ext cx="3049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1523880"/>
            <a:ext cx="304920" cy="22392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2057400"/>
            <a:ext cx="304560" cy="22392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666880"/>
            <a:ext cx="304920" cy="223920"/>
          </a:xfrm>
          <a:custGeom>
            <a:avLst/>
            <a:gdLst/>
            <a:ahLst/>
            <a:rect l="l" t="t" r="r" b="b"/>
            <a:pathLst>
              <a:path w="570" h="141">
                <a:moveTo>
                  <a:pt x="570" y="117"/>
                </a:moveTo>
                <a:cubicBezTo>
                  <a:pt x="527" y="52"/>
                  <a:pt x="497" y="22"/>
                  <a:pt x="420" y="3"/>
                </a:cubicBezTo>
                <a:cubicBezTo>
                  <a:pt x="345" y="6"/>
                  <a:pt x="257" y="0"/>
                  <a:pt x="180" y="21"/>
                </a:cubicBezTo>
                <a:cubicBezTo>
                  <a:pt x="158" y="27"/>
                  <a:pt x="111" y="37"/>
                  <a:pt x="90" y="51"/>
                </a:cubicBezTo>
                <a:cubicBezTo>
                  <a:pt x="78" y="59"/>
                  <a:pt x="54" y="75"/>
                  <a:pt x="54" y="75"/>
                </a:cubicBezTo>
                <a:cubicBezTo>
                  <a:pt x="50" y="81"/>
                  <a:pt x="47" y="88"/>
                  <a:pt x="42" y="93"/>
                </a:cubicBezTo>
                <a:cubicBezTo>
                  <a:pt x="37" y="98"/>
                  <a:pt x="29" y="100"/>
                  <a:pt x="24" y="105"/>
                </a:cubicBezTo>
                <a:cubicBezTo>
                  <a:pt x="15" y="116"/>
                  <a:pt x="0" y="141"/>
                  <a:pt x="0" y="14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04920"/>
            <a:ext cx="304560" cy="304560"/>
          </a:xfrm>
          <a:prstGeom prst="ellipse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04920"/>
            <a:ext cx="304920" cy="304560"/>
          </a:xfrm>
          <a:prstGeom prst="ellipse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07:58:40Z</dcterms:created>
  <dc:creator>Skipy</dc:creator>
  <dc:description/>
  <dc:language>en-US</dc:language>
  <cp:lastModifiedBy>Skipy</cp:lastModifiedBy>
  <dcterms:modified xsi:type="dcterms:W3CDTF">2003-04-13T11:01:36Z</dcterms:modified>
  <cp:revision>29</cp:revision>
  <dc:subject/>
  <dc:title>Pokusím se Vám vysvětlit princip řazení polí pomocí metod SelectSort, InsertSort, BubleSort a potom Vám pomůžu s vytvořením vlastního kódu... </dc:title>
</cp:coreProperties>
</file>