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418-A90F-47DB-9CBF-10674C62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DBD-232A-4520-9640-9E9F8D8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FAF-DC65-4D74-8BAE-4E7F78E6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6A0-893F-4354-BA41-BF17F22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498-9029-4502-A175-5708018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B15-97A6-407D-A0A8-262A27E2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ED7-DDEE-47FB-88FD-1898B11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1D3-0166-4212-82BE-932DC43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4F3-A054-4547-826B-820C602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B0A-B810-4A4B-B3B8-4866094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C08-7004-4FA6-ADD3-6445D31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2CB-E7F6-4D3C-9820-9B26A3F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10D-5EF8-41DC-AB5C-FC513CF25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raktálová komprese obraz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teřina Bambušk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D45-AFB2-4AE7-85A6-AC783CA83930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S je soubor parametrů, které definují afinní (lineární) transformace a jejich množina pak určuje výsledný fraktá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ierpinsky_i1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sierpinsky_i2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sierpinsky_i3" descr=""/>
          <p:cNvPicPr/>
          <p:nvPr/>
        </p:nvPicPr>
        <p:blipFill>
          <a:blip r:embed="rId4"/>
          <a:stretch/>
        </p:blipFill>
        <p:spPr>
          <a:xfrm>
            <a:off x="312408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sierpinsky_i4" descr=""/>
          <p:cNvPicPr/>
          <p:nvPr/>
        </p:nvPicPr>
        <p:blipFill>
          <a:blip r:embed="rId5"/>
          <a:stretch/>
        </p:blipFill>
        <p:spPr>
          <a:xfrm>
            <a:off x="449568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sierpinsky_i5" descr=""/>
          <p:cNvPicPr/>
          <p:nvPr/>
        </p:nvPicPr>
        <p:blipFill>
          <a:blip r:embed="rId6"/>
          <a:stretch/>
        </p:blipFill>
        <p:spPr>
          <a:xfrm>
            <a:off x="586728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sierpinsky_i6" descr=""/>
          <p:cNvPicPr/>
          <p:nvPr/>
        </p:nvPicPr>
        <p:blipFill>
          <a:blip r:embed="rId7"/>
          <a:stretch/>
        </p:blipFill>
        <p:spPr>
          <a:xfrm>
            <a:off x="7238880" y="2209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3733920"/>
            <a:ext cx="83818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obrázcích je 6 iterací při konstruování fraktálu "Sierpinského trojúhelníku". Tento fraktál je popsán, 3-mi transformace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ý obrázek se zmenší na poloviční velikost a jeho 3 kopie se umístí do pyramidy, tak jak je to ve druhé iteraci. Tentýž postup se aplikuje opakovaně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praxi by se opakoval tak dlouho, až by byly trojúhelníčky tak malé, že by je reprezentovaly smotné pixely. Potom už nemá smysl provádět další iterace, protože se obrázek nemě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4EF-8B81-4FA3-AAC5-93C2BB12D5A5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ůže být použit jakýkoliv út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nother_i1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another_i2" descr=""/>
          <p:cNvPicPr/>
          <p:nvPr/>
        </p:nvPicPr>
        <p:blipFill>
          <a:blip r:embed="rId3"/>
          <a:stretch/>
        </p:blipFill>
        <p:spPr>
          <a:xfrm>
            <a:off x="17524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another_i3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another_i4" descr=""/>
          <p:cNvPicPr/>
          <p:nvPr/>
        </p:nvPicPr>
        <p:blipFill>
          <a:blip r:embed="rId5"/>
          <a:stretch/>
        </p:blipFill>
        <p:spPr>
          <a:xfrm>
            <a:off x="44956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another_i5" descr=""/>
          <p:cNvPicPr/>
          <p:nvPr/>
        </p:nvPicPr>
        <p:blipFill>
          <a:blip r:embed="rId6"/>
          <a:stretch/>
        </p:blipFill>
        <p:spPr>
          <a:xfrm>
            <a:off x="58672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another_i6" descr=""/>
          <p:cNvPicPr/>
          <p:nvPr/>
        </p:nvPicPr>
        <p:blipFill>
          <a:blip r:embed="rId7"/>
          <a:stretch/>
        </p:blipFill>
        <p:spPr>
          <a:xfrm>
            <a:off x="723888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sierpinsky_i1" descr=""/>
          <p:cNvPicPr/>
          <p:nvPr/>
        </p:nvPicPr>
        <p:blipFill>
          <a:blip r:embed="rId8"/>
          <a:stretch/>
        </p:blipFill>
        <p:spPr>
          <a:xfrm>
            <a:off x="38088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sierpinsky_i2" descr=""/>
          <p:cNvPicPr/>
          <p:nvPr/>
        </p:nvPicPr>
        <p:blipFill>
          <a:blip r:embed="rId9"/>
          <a:stretch/>
        </p:blipFill>
        <p:spPr>
          <a:xfrm>
            <a:off x="175248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sierpinsky_i3" descr=""/>
          <p:cNvPicPr/>
          <p:nvPr/>
        </p:nvPicPr>
        <p:blipFill>
          <a:blip r:embed="rId10"/>
          <a:stretch/>
        </p:blipFill>
        <p:spPr>
          <a:xfrm>
            <a:off x="312408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sierpinsky_i4" descr=""/>
          <p:cNvPicPr/>
          <p:nvPr/>
        </p:nvPicPr>
        <p:blipFill>
          <a:blip r:embed="rId11"/>
          <a:stretch/>
        </p:blipFill>
        <p:spPr>
          <a:xfrm>
            <a:off x="449568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sierpinsky_i5" descr=""/>
          <p:cNvPicPr/>
          <p:nvPr/>
        </p:nvPicPr>
        <p:blipFill>
          <a:blip r:embed="rId12"/>
          <a:stretch/>
        </p:blipFill>
        <p:spPr>
          <a:xfrm>
            <a:off x="586728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sierpinsky_i6" descr=""/>
          <p:cNvPicPr/>
          <p:nvPr/>
        </p:nvPicPr>
        <p:blipFill>
          <a:blip r:embed="rId13"/>
          <a:stretch/>
        </p:blipFill>
        <p:spPr>
          <a:xfrm>
            <a:off x="7238880" y="1523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4495680"/>
            <a:ext cx="8229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příklad dokazuje, že aplikací stejných pravidel se dostáváme ke stejnému atraktoru, ačkoliv vstupní obrázek je libovol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obou příkladech by byly zapotřebí ještě tak dvě nebo tři iterace, abychom se dostali na obvyklé rozlišení obrazovky. Obrázky by byly z tohoto hlediska shod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50C-B993-4873-8F2C-8FDD0C94D706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is 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752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každý bod při aplikaci afinní transformace platí tato rovn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w_2d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1989000" cy="54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32767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kto vypadá IFS ve zjednodušené formě (pro černobílé obrázk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ůžeme se pokusit o fraktálovou kompresi obrázku "Sierpinského trojúhelník", tedy naopak se zadaným obrázkem zjistit I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B5E-DA83-41E1-9D87-7A5418C11B51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likace na obr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 Sierpinského trojúhelník se konstruuje pomocí tří transform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chema1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4560840" cy="17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4F5-F77F-46C2-BED4-588EA061880E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371600"/>
            <a:ext cx="388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 generujeme fraktál iterativním postupem, aplikujeme transformaci W na obrázek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 fraktálové dekomprese obrázku se transformace provádí z větších bloků do menších - říkáme že větší bloky mapujeme do menší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chema2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0CB-71C8-459E-9FD8-3361439AECF7}" type="slidenum">
              <a:t>14</a:t>
            </a:fld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43000"/>
            <a:ext cx="29718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í bloky se mohou překrývat, menší nikol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každý menší blok se hledá co možná nejpodobnější větší blok (aby se zajistila kontraktivi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kové nálezy soběpodobnosti mohou vypadat následovně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self_similarity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888000" cy="38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590-9663-4B5C-9EBC-BF80212E3166}" type="slidenum">
              <a:t>15</a:t>
            </a:fld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371600"/>
            <a:ext cx="77724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ejně jako při generování fraktálů můžeme použít opravdu jakýkoliv vstupní obrázek a na ten aplikovat iter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tupní kvalita obrázku závisí především na míře podobnosti mezi malými a velkými blok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ím, že se kompresní metoda zakládá na fraktálech, dědí zakódované obrázky taky zajímavou vlastnost - nezávislost na rozlišení; tedy lze je dekódovat na libovolném rozlišení bez ztráty detail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ové obrázky mají stejně daleko od rastrové i vektorové grafiky, zavádí tedy úplně nové odvětví PC grafiky s mnoha praktickými aplikace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D90-47A9-4183-A9C8-594FE105D0F9}" type="slidenum">
              <a:t>16</a:t>
            </a:fld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prese obrazu pomocí IFS je výpočetně náročný úkol, naopak dekódování je velmi rychl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de tedy o silně asymetrický proces a zároveň výsledkem komprese je nejistá kvalita obraz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píš proto s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to kompresní metoda příliš nerozšíř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todou fraktálové komprese je vhodnější kódovat spíše přírodní scené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rpáno z </a:t>
            </a:r>
            <a:r>
              <a:rPr b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pcsvet.cz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6E0-5587-4501-A560-0DA432A10C41}" type="slidenum">
              <a:t>17</a:t>
            </a:fld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závě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2004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stor k disku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533-4187-40A2-91D7-7C2DDC2E13A9}" type="slidenum">
              <a:t>18</a:t>
            </a:fld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úv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k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nu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D26-A47E-46EB-9880-5FE3694C6E69}" type="slidenum">
              <a:t>2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523880"/>
            <a:ext cx="80769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ová komprese je zhruba stejně stará jako standard 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ce 1987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Barnsle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veřejnil své výsledky dosažené implementací metody fraktálové komprese obrazu, které byly velmi zajímavé, ale ne příliš efektiv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uvěřitelná časová nároč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sivní výpočetní vý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tnost přítomnosti člověka (teorém graduovaného stude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5C0-2D18-4ACA-B16F-E56AF232A60F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 komp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7772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redundance (nadbytečnosti) v dat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trátové metody – hledají delší sekvence stejných prvků, nebo redukují informace pro popis frekventovaných prvk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PEG vidí zbytečnou informaci ve funkcích vysokých frekvencí, algoritmus pracuje v blocích (vztahy mezi nejbližšími pixe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ová komprese je založena na soběpodobnosti, pracuje se s různě velkými bloky, třeba i na opačných stranách obráz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B9B-69AE-45A0-9206-43BE6F229303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raktály a fraktání geomet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8001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ktálová komprese se zakládá na fraktálech, a ty jsou definovány matematickým oborem fraktální geometri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oît Mandelbro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l slovo fraktá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 l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ctus = zlomi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ktály byly v podstatě známé už v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cké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ku, ale pokusy o jejich matematický popis se objevily až během první světové válk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elbrot se pokoušel tyto množiny sjed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v jeden komplexní cel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B32-EFDF-4EDC-B074-D535FFE5F683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elbrotova množ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andel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429000" cy="31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7E9-6EBC-44F7-94E8-056747C734AA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raktální geomet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05120"/>
            <a:ext cx="746748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tvary fraktální geometrie - fraktály, se často velice přibližují přírodním objektům a tím se liší od klasické Euklidovské geomet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Euklidovské geometrii má každý útvar tzv. topologickou dimenzi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porné celé čís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ní geometrie zavádí ještě dimenzi fraktální, kde hodnota může být i iracionální čísl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AA7-DB7D-4C5C-B2C1-E4A479173ED6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raktální geomet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 je nekonečně složitý, ačkoliv jeho popis je konečný (většinou rovnice nebo soustava rovnic či transformační matic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to je tento popis docela jednoduchý - Mandelbrotova množina je definována krátkou rovnicí o třech neznámý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itost vyplívá ze soběpodobnosti, což je způsob, jakým se přírodě daří vytvářet fascinující útvary jako stromy a kapradi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4B7-E939-482F-A923-92BA59133311}" type="slidenum">
              <a:t>8</a:t>
            </a:fld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émy iterovaných funkc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81080"/>
            <a:ext cx="76201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chopnost fraktální geometrie dobře popsat přírodní útvary inspirovala Barnsleyho ke zpracování digitálního obra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složité obrazce najít nějakým algoritmem jednoduchý popis, tento inverzní problém je však dodnes nevyřeš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bízí se však částečná řešení, která lze realizovat i na běžném P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aktály lze na PC generovat několika způsoby, z nichž nejvýznamnější pro kompresi obrazu jsou IFS (Iterated Function Systems - systémy iterovaných funkc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Kateřina Bambušková, VŠB-TU Ostr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268-DB42-4E9C-8D5C-9C14FFD8FB7D}" type="slidenum">
              <a:t>9</a:t>
            </a:fld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8:58:16Z</dcterms:created>
  <dc:creator>Nippy Kaa</dc:creator>
  <dc:description/>
  <dc:language>en-US</dc:language>
  <cp:lastModifiedBy>Nippy Kaa</cp:lastModifiedBy>
  <dcterms:modified xsi:type="dcterms:W3CDTF">2005-10-10T06:48:08Z</dcterms:modified>
  <cp:revision>18</cp:revision>
  <dc:subject/>
  <dc:title>Fraktálová komprese obrazu</dc:title>
</cp:coreProperties>
</file>