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52D-3805-45A5-B95D-267858F1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AAF-FDF8-4C22-A3D0-468ACE41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B11-1C02-4F7B-86AD-FA6D062B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58B-1B21-4F63-8606-83AC25ED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002-05FB-40EA-A5A8-C2BD13EE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D20-2681-4D88-BA36-70C295D7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B2F-8EDB-4141-9452-C45517AE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12C-F506-4F6F-B1AF-096CE258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2E5-714E-447F-8CB9-FD1E120C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B10-ACAF-4D6D-9C9E-67D6C20F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30E-4FE0-4D6A-9B39-77C55784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CF2-9A4D-47F3-A2CA-E2CFC316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c9"/>
            </a:gs>
            <a:gs pos="50000">
              <a:srgbClr val="ffffff"/>
            </a:gs>
            <a:gs pos="100000">
              <a:srgbClr val="c9ff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F9CD-51DC-41E3-93D1-77FB485A7D0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A446-B52E-423D-805D-B19AB138D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c9"/>
            </a:gs>
            <a:gs pos="50000">
              <a:srgbClr val="ffffff"/>
            </a:gs>
            <a:gs pos="100000">
              <a:srgbClr val="c9ff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ýuka JavaScript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© Kateřina Bambušk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B2A-F296-41DB-BF76-546A2572C47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1D017-C483-44A0-9333-3CEA49B79B5C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c9"/>
            </a:gs>
            <a:gs pos="50000">
              <a:srgbClr val="ffffff"/>
            </a:gs>
            <a:gs pos="100000">
              <a:srgbClr val="c9ff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 potřebujete pro tvorbu JavaScriptů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yčejný textový editor např. Poznámkový blok („Notepad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514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ternetový prohlížeč např. Internet Expl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048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ákladní znalost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581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uť tvořit a trávit spoustu času u PC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8E00-1F9B-4482-8555-E88F9A53B5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43F62-D0EB-4483-BB4A-D412E319B73A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c9"/>
            </a:gs>
            <a:gs pos="50000">
              <a:srgbClr val="ffffff"/>
            </a:gs>
            <a:gs pos="100000">
              <a:srgbClr val="c9ff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yntaxe JavaScrip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 kódu stránky HTML vložíme tento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cc"/>
                </a:solidFill>
                <a:latin typeface="Times New Roman"/>
              </a:rPr>
              <a:t>&lt;script language="JavaScrip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cc"/>
                </a:solidFill>
                <a:latin typeface="Times New Roman"/>
              </a:rPr>
              <a:t>&lt;!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sem pak vepisujeme vlastní kó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cc"/>
                </a:solidFill>
                <a:latin typeface="Times New Roman"/>
              </a:rPr>
              <a:t>//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cc"/>
                </a:solidFill>
                <a:latin typeface="Times New Roman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kud používáme Script pro tvorbu stránky vkládáme jej do těla stránky mezi tag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cc"/>
                </a:solidFill>
                <a:latin typeface="Times New Roman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scr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cc"/>
                </a:solidFill>
                <a:latin typeface="Times New Roman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inak je možno jej vkládat téměř kamkol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62B-2099-4234-B81B-3148488B81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98B68-9546-4475-A0EE-31B0D579FBEE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c9"/>
            </a:gs>
            <a:gs pos="50000">
              <a:srgbClr val="ffffff"/>
            </a:gs>
            <a:gs pos="100000">
              <a:srgbClr val="c9ff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čínám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 Poznámkového bloku napíšeme tento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title&gt;Stránka s JavaScriptem&lt;/tit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script language="JavaScrip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!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ocument.write(“Můj první JavaScript")  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/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114800" y="3200400"/>
            <a:ext cx="4572000" cy="1523880"/>
            <a:chOff x="4114800" y="3200400"/>
            <a:chExt cx="4572000" cy="1523880"/>
          </a:xfrm>
        </p:grpSpPr>
        <p:sp>
          <p:nvSpPr>
            <p:cNvPr id="53" name=""/>
            <p:cNvSpPr/>
            <p:nvPr/>
          </p:nvSpPr>
          <p:spPr>
            <a:xfrm>
              <a:off x="4114800" y="3733920"/>
              <a:ext cx="30492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57800" y="3200400"/>
              <a:ext cx="3429000" cy="1523880"/>
            </a:xfrm>
            <a:prstGeom prst="wedgeRectCallout">
              <a:avLst>
                <a:gd name="adj1" fmla="val -73657"/>
                <a:gd name="adj2" fmla="val -8851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rotože JavaScript vychází z Javy, která pochází z „Céčka“ musí každý příkaz končit středníkem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(jeden příkaz může být rozdělen na více řádků, Enter nehraje žádnou roli, rozhoduje pouze střední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081320" y="2249640"/>
            <a:ext cx="3081600" cy="325440"/>
          </a:xfrm>
          <a:prstGeom prst="borderCallout2">
            <a:avLst>
              <a:gd name="adj1" fmla="val 18750"/>
              <a:gd name="adj2" fmla="val -8333"/>
              <a:gd name="adj3" fmla="val 35120"/>
              <a:gd name="adj4" fmla="val -59504"/>
              <a:gd name="adj5" fmla="val -4388"/>
              <a:gd name="adj6" fmla="val -62749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xt, který se objeví v záhlaví strán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FAD-D746-44E8-9919-54070190190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DDE7F-99EE-4199-9F4B-C2AA293FF0B9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c9"/>
            </a:gs>
            <a:gs pos="50000">
              <a:srgbClr val="ffffff"/>
            </a:gs>
            <a:gs pos="100000">
              <a:srgbClr val="c9ff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114300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ní soubor uložíme jako stránku HTML a to následujícím způsob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bor – uložit jako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362560" cy="34956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3352680" y="2895480"/>
            <a:ext cx="3124440" cy="2210040"/>
            <a:chOff x="3352680" y="2895480"/>
            <a:chExt cx="3124440" cy="2210040"/>
          </a:xfrm>
        </p:grpSpPr>
        <p:sp>
          <p:nvSpPr>
            <p:cNvPr id="59" name=""/>
            <p:cNvSpPr/>
            <p:nvPr/>
          </p:nvSpPr>
          <p:spPr>
            <a:xfrm>
              <a:off x="3352680" y="4800600"/>
              <a:ext cx="83844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43400" y="3048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ázev stránky + přípona *.htm nebo *.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91120" y="2895480"/>
              <a:ext cx="2286000" cy="8384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3"/>
              <a:endCxn id="59" idx="0"/>
            </p:cNvCxnSpPr>
            <p:nvPr/>
          </p:nvCxnSpPr>
          <p:spPr>
            <a:xfrm flipH="1">
              <a:off x="3771720" y="3611160"/>
              <a:ext cx="754560" cy="118980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</a:ln>
          </p:spPr>
        </p:cxnSp>
      </p:grpSp>
      <p:grpSp>
        <p:nvGrpSpPr>
          <p:cNvPr id="63" name=""/>
          <p:cNvGrpSpPr/>
          <p:nvPr/>
        </p:nvGrpSpPr>
        <p:grpSpPr>
          <a:xfrm>
            <a:off x="4267080" y="5105520"/>
            <a:ext cx="3886200" cy="1143000"/>
            <a:chOff x="4267080" y="5105520"/>
            <a:chExt cx="3886200" cy="1143000"/>
          </a:xfrm>
        </p:grpSpPr>
        <p:sp>
          <p:nvSpPr>
            <p:cNvPr id="64" name=""/>
            <p:cNvSpPr/>
            <p:nvPr/>
          </p:nvSpPr>
          <p:spPr>
            <a:xfrm>
              <a:off x="5562720" y="51055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95880" y="56386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ybereme uložit jako typ všechny soubory *.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67080" y="5638680"/>
              <a:ext cx="167652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3600" y="5562720"/>
              <a:ext cx="2133720" cy="6858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64" idx="5"/>
              <a:endCxn id="67" idx="1"/>
            </p:cNvCxnSpPr>
            <p:nvPr/>
          </p:nvCxnSpPr>
          <p:spPr>
            <a:xfrm>
              <a:off x="5823000" y="5365800"/>
              <a:ext cx="434160" cy="29736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</a:ln>
          </p:spPr>
        </p:cxn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ínám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F7A-E901-4B93-8710-CF9C22EFE84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7CF1D-A4FC-4D11-A68E-9BF1EFF65E16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c9"/>
            </a:gs>
            <a:gs pos="50000">
              <a:srgbClr val="ffffff"/>
            </a:gs>
            <a:gs pos="100000">
              <a:srgbClr val="c9ff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44792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kud jste udělali vše správně měla by vaše stránka po spuštění v prohlížeči vypadat asi tak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2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5486400" cy="3301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číná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EF1-BB07-49C4-BA0D-94F7B978606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605CD-E4AD-41EB-B9C4-7C2E8518A672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c9"/>
            </a:gs>
            <a:gs pos="50000">
              <a:srgbClr val="ffffff"/>
            </a:gs>
            <a:gs pos="100000">
              <a:srgbClr val="c9ff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kc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219320"/>
            <a:ext cx="7620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Už umíme vypsat text na obrazovku, teď si vyzkoušíme práci s dialogovými okn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to potřebujeme znát objekt –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 jeho metod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lert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ff33cc"/>
                </a:solidFill>
                <a:latin typeface="Times New Roman"/>
              </a:rPr>
              <a:t>text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slouží k vyvolání dialogového okna s textem </a:t>
            </a:r>
            <a:r>
              <a:rPr b="0" lang="cs-CZ" sz="1600" spc="-1" strike="noStrike">
                <a:solidFill>
                  <a:srgbClr val="ff33cc"/>
                </a:solidFill>
                <a:latin typeface="Times New Roman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rompt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text,[předdefinovaný text])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slouží k vyvolání dialogového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kna pro vkládání tex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143000" y="3809880"/>
            <a:ext cx="6172200" cy="1641600"/>
            <a:chOff x="1143000" y="3809880"/>
            <a:chExt cx="6172200" cy="1641600"/>
          </a:xfrm>
        </p:grpSpPr>
        <p:sp>
          <p:nvSpPr>
            <p:cNvPr id="76" name=""/>
            <p:cNvSpPr/>
            <p:nvPr/>
          </p:nvSpPr>
          <p:spPr>
            <a:xfrm>
              <a:off x="1143000" y="3809880"/>
              <a:ext cx="274320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ř1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window.alert (“AHOJ“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vyvolá se okno tohoto typu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3" descr=""/>
            <p:cNvPicPr/>
            <p:nvPr/>
          </p:nvPicPr>
          <p:blipFill>
            <a:blip r:embed="rId3"/>
            <a:stretch/>
          </p:blipFill>
          <p:spPr>
            <a:xfrm>
              <a:off x="4800600" y="3886200"/>
              <a:ext cx="2514600" cy="156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1219320" y="509760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111-EE35-433E-AD85-E88BDA49A0E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049B1-36A9-4F37-A5B3-7D7F881416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c9"/>
            </a:gs>
            <a:gs pos="50000">
              <a:srgbClr val="ffffff"/>
            </a:gs>
            <a:gs pos="100000">
              <a:srgbClr val="c9ff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066680"/>
            <a:ext cx="78487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om = window.prompt (“Jak se jmenuješ?“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window.alert (“Ahoj “+ pro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kc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4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6019560" cy="1677960"/>
          </a:xfrm>
          <a:prstGeom prst="rect">
            <a:avLst/>
          </a:prstGeom>
          <a:ln w="0">
            <a:noFill/>
          </a:ln>
        </p:spPr>
      </p:pic>
      <p:pic>
        <p:nvPicPr>
          <p:cNvPr id="82" name="5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2667240" cy="1635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81480" y="1143000"/>
            <a:ext cx="32767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o proměnné prom se vloží hodnota, kterou zadáte v dialogovém okně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alším příkazem vyvoláme okno s textem Ahoj + hodnota p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648320" y="1447560"/>
            <a:ext cx="533160" cy="15228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1981080"/>
            <a:ext cx="14479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968-3530-4685-83E8-D0D122AFDBC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71B51-04BE-4501-8E3D-5CA0AE63A1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c9"/>
            </a:gs>
            <a:gs pos="50000">
              <a:srgbClr val="ffffff"/>
            </a:gs>
            <a:gs pos="100000">
              <a:srgbClr val="c9ff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Kone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6B7-8DB8-4927-93D6-065AE6B3E76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3F6CA-F3B9-4ECF-A038-121293B890FD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6:21:29Z</dcterms:created>
  <dc:creator>Kateřina Bambušková</dc:creator>
  <dc:description/>
  <dc:language>en-US</dc:language>
  <cp:lastModifiedBy>Althon</cp:lastModifiedBy>
  <dcterms:modified xsi:type="dcterms:W3CDTF">2003-02-19T20:56:50Z</dcterms:modified>
  <cp:revision>37</cp:revision>
  <dc:subject/>
  <dc:title>Výuka JavaScriptu</dc:title>
</cp:coreProperties>
</file>